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F99-93C3-4150-AF9D-735A3C56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4E8-5D8F-4831-B15D-FE541413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882-4BC2-415B-B5A4-124D0926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9C4-F770-4C7A-85E5-63BC4D2D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2E62-C3B0-455F-8EC6-333B2419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198D-CE80-48E0-9C32-50237F64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28D-280F-4F31-8EB2-C485D9BB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55E8-3134-4036-81F3-D0F7778F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7F14-E526-4F42-A7C3-68A7F3AF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7911-91D6-4F66-AF07-DAC63478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DDC9-EA0F-4C1B-8CB6-99B22EAE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5A3-18FA-43B6-9581-73062650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C8E6-0929-476B-8B16-B8C92B11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3FF6-51E5-45FD-913A-D8E4422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F995-C2ED-4AB1-A3C1-CE1F500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7E2B-1902-45DF-B42D-C95FC0E0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0B94-7EE3-46D3-8361-53BC2335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E28-E215-4288-AA79-B1B2125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8E9-6FB8-49C9-8B0B-1B2496B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426-DF92-4423-A073-A271ECD4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194-DA5B-4AFC-A875-EADFB812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D87-14F9-4934-B170-8DA5F7AA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5C9-4570-484A-9547-6F84C3B9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FFB-8443-4DBE-A4C7-A709EB1B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0667-B3AD-4F96-9F99-FA92B65699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77CC-8674-4649-8CBC-B8DFDB7152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o Tell The Good News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rouble Arises In Jerusalem</a:t>
            </a:r>
            <a:br>
              <a:rPr sz="4000"/>
            </a:br>
            <a:br>
              <a:rPr sz="5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art 2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12  Less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s 21:17-22:2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pages 186-1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aul’s Defense before The Mob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cts 22: 1-21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nias came to Paul and said “ Brother Saul, receive your sight and immediately he could s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nias told Paul what God had planned for hi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know His wi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see Jesus Chr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a witness for Chr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aul’s Defense before The Mob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cts 22: 1-21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sus appeared to Paul again and told him to leave Jerusalem quick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protes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sus said “ I am sending you to the Gentil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ul Arrives In Jerusalem</a:t>
            </a:r>
            <a:br>
              <a:rPr sz="40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(Acts 21:17-26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130120"/>
            <a:ext cx="82296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gift from Gentile Christi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rethren received them warm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nt in to see James and the eld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told all that God accomplished among the Gent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mes and the elders glorified G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ul Arrives In Jerusalem</a:t>
            </a:r>
            <a:br>
              <a:rPr sz="40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(Acts 21:17-26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Jews did not reject the gosp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belie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ieving Jews thought Paul taught the Jews who lived among the Gentiles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270828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p following after Mo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70828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circumcise their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70828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live according to the customs of the la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1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ul Arrives In Jerusalem</a:t>
            </a:r>
            <a:br>
              <a:rPr sz="40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(Acts 21:17-26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elders advised Paul to pay expenses for a vow (probably a Nazirite vow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clarify Paul’s position on the customs of the Je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elders still firmly believed that the Gentiles did not have to keep the law of Mo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took their ad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ul Arrives In Jerusalem</a:t>
            </a:r>
            <a:br>
              <a:rPr sz="40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(Acts 21:17-26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’s convi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entiles were not subject to the Law of Moses in any w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Jewish Christians could observe the customs of their fat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 long as they did not bind them as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ostolic example is an important way to establish authority for 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less God demonstrates His dis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The Jews Start A Riot</a:t>
            </a:r>
            <a:br>
              <a:rPr sz="40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(Acts 21:27-36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ws from Asia charged tha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ul taught against the people, the law, and the te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ul brought a Greek into the te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iot grew like a f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b seized Paul and dragged him out of the te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b was composed of Jews from Jerusa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The Jews Start A Riot</a:t>
            </a:r>
            <a:br>
              <a:rPr sz="40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(Acts 21:27-36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5380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oman authorities rescued Paul from the m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bounded him with two cha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took him to the Tower of Anto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hief captain (the tribune) thought Paul was a terror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aul Requests Permission To Speak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(Acts 21:37-40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asked to speak to the m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said: “I am a Jew from Tarsus in Cilicia, a citizen of a prominent city, and I would like permission to speak to the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was granted permission to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spoke to them in Aramic (the language of the common man in Israel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aul’s Defense before The Mob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cts 22: 1-21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sai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, too, once persecuted this W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the Lord whom I had been persecuting, appeared to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ord said I would be told what He had planned for me to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was told to go to Damascus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1:33:57Z</dcterms:created>
  <dc:creator>robert marshall</dc:creator>
  <dc:description/>
  <dc:language>en-US</dc:language>
  <cp:lastModifiedBy>robert marshall</cp:lastModifiedBy>
  <dcterms:modified xsi:type="dcterms:W3CDTF">2007-01-29T15:10:46Z</dcterms:modified>
  <cp:revision>3</cp:revision>
  <dc:subject/>
  <dc:title>Go Tell The Good News  Trouble Arises In Jerusalem Part 2</dc:title>
</cp:coreProperties>
</file>